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EE4D5-3C1C-4A5D-B702-C4E20DA17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72B224-7EB4-4BB9-97F3-25BFFC180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9420B0-986D-4DB3-B463-25D9C4C91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6AFC-A79D-48C7-A34A-AB95B4201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9D98-3E6A-4CF0-8754-43B41BE31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3E9D-BEE0-4F66-8AFF-BA14FFE20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BB94-E7E4-46B5-A7B8-F871652FA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665B-B44B-4A39-BC26-B3C010E70F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A7B1D-DAE7-4AC4-A970-A1191A7632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4C87-6212-4AC4-9508-C9D010E314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2C0C-9A27-43B6-9F07-0ECA33B77C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760D4-8EF4-4FB5-A3AD-4E078A2B32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A465-60B7-4CC8-95DF-BDDF1A6E7A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21865-FEA6-44C3-9A36-828A29C1D8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7284-5AF7-45D4-A744-BD0596E9D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4A5D-D85A-4323-A657-B83B5B12BD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31A67-EF09-41F4-8F32-98C1698457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965B-637A-4174-8561-DD889334E2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1B8B-93DA-4BF7-982E-C2CD9FB3D3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22D6-4EC7-4235-BFEC-CDDB948366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2DE6-F8C7-4F44-9F4C-D8696D9CE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E2CD-3DA8-4AEB-9E55-2173D62AC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811F-5360-48A2-836B-BA8F8A5CD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EBEA-9246-46A2-A774-A1723F50B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7030-1F5F-4A15-9580-A0CD15D58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38B9-146D-46C2-8419-36FB8F2EA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A40B-A2AF-48EE-ACCB-019C1E2B7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0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BA140D-60BF-46F9-B7EF-95571ED6EA2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315200" y="152280"/>
            <a:ext cx="1374840" cy="13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240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060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C8C46-A5EC-4F6B-B5DB-ED12CDA7360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1523880"/>
            <a:ext cx="7623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GRIN: A Graph Based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RDF Index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962520"/>
            <a:ext cx="655344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avian Udre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a Puglies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 S. Subrahmania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Maryland College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à di Calab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ative RDF systems: RDFBro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tek et al., ESWC 20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atabase schema is built based o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ignatures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et of properties used on a re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s the number of joins between t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2EF0F0-F14C-4242-AADA-79CD5E2CEB4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human perspec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60BF93-42C8-4220-8E86-55E1EB78BDA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4280" y="990720"/>
            <a:ext cx="5667480" cy="5140080"/>
            <a:chOff x="44280" y="990720"/>
            <a:chExt cx="5667480" cy="514008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44280" y="990720"/>
              <a:ext cx="566748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4280" y="990720"/>
              <a:ext cx="5667480" cy="51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784840" y="2286000"/>
            <a:ext cx="335916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human perspec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B6ACD0-0F03-42EC-B3D1-98FB10DDC31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97440" y="2286000"/>
            <a:ext cx="3346560" cy="163656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44280" y="990720"/>
            <a:ext cx="5667480" cy="5140080"/>
            <a:chOff x="44280" y="990720"/>
            <a:chExt cx="5667480" cy="514008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44280" y="990720"/>
              <a:ext cx="566748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4280" y="990720"/>
              <a:ext cx="5667480" cy="51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3352680" cy="1641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human perspec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D8AE5E-0500-4F9C-BE85-497793D3D00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4280" y="990720"/>
            <a:ext cx="5667480" cy="5140080"/>
            <a:chOff x="44280" y="990720"/>
            <a:chExt cx="5667480" cy="514008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44280" y="990720"/>
              <a:ext cx="566748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4280" y="990720"/>
              <a:ext cx="5667480" cy="51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238880" y="3200400"/>
            <a:ext cx="838440" cy="8380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44280" y="990720"/>
            <a:ext cx="5667480" cy="5140080"/>
            <a:chOff x="44280" y="990720"/>
            <a:chExt cx="5667480" cy="51400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44280" y="990720"/>
              <a:ext cx="566748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280" y="990720"/>
              <a:ext cx="5667480" cy="51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human perspec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638C91-C2E8-4EF6-9509-4C7405C6D34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797440" y="2286000"/>
            <a:ext cx="3346560" cy="1636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238880" y="3200400"/>
            <a:ext cx="838440" cy="8380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44280" y="990720"/>
            <a:ext cx="5667480" cy="5140080"/>
            <a:chOff x="44280" y="990720"/>
            <a:chExt cx="5667480" cy="514008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44280" y="990720"/>
              <a:ext cx="566748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280" y="990720"/>
              <a:ext cx="5667480" cy="51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human perspec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1B5ECA-E17A-4395-8D4C-C195F35D6E4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7440" y="2286000"/>
            <a:ext cx="3346560" cy="1636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238880" y="3200400"/>
            <a:ext cx="838440" cy="8380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3276720"/>
            <a:ext cx="762120" cy="7617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1143000"/>
            <a:ext cx="762120" cy="762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RDF data and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RIN Index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Answering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Experimental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0C3CF0-C7FF-46F4-9B62-2B46284CB7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IN intui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ources “closer” in the RDF graph are more likely to be part of the same ans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Hence they should appear on the same p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IN will group resources 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irc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ound select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enter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ry evalu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Find the smallest circle that contains the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Evaluate query only on resources in that cir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183E76-3BCC-407D-A880-C6ADC183B35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GRIN Index structu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IN is a binary tree in whi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Leaf nodes are sets of resources (and the associated trip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Inner nodes are circles consisting of a center resource and a radi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Each node is fully contained in its pa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ance metric: shortest path distance in the undirected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E36963-DB99-408F-9DE9-891A71A60A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371600" y="838080"/>
            <a:ext cx="5697360" cy="5140440"/>
            <a:chOff x="1371600" y="838080"/>
            <a:chExt cx="5697360" cy="514044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1371600" y="838080"/>
              <a:ext cx="5697360" cy="51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71600" y="838080"/>
              <a:ext cx="5697360" cy="51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the index: cluste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F029AC-4CB4-432D-9B1C-61C4A4F284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C221AB-3F31-4DDF-B201-ED24F061684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enty of large RDF datase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TAP, GovTrack, ChefMoz, CIA World Factb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Many many more (see rdfdata.or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ry languages: RDQL, RQL, SPARQ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B systems: Jena, Sesame, RDFBro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x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Based on relational database inde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Has to be rooted in the characteristics of the query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371600" y="838080"/>
            <a:ext cx="5697360" cy="5140440"/>
            <a:chOff x="1371600" y="838080"/>
            <a:chExt cx="5697360" cy="514044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1371600" y="838080"/>
              <a:ext cx="5697360" cy="51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371600" y="838080"/>
              <a:ext cx="5697360" cy="51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the index: cluste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CD6848-554F-425D-99EA-0A6DC0E03D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371600" y="838080"/>
            <a:ext cx="5697360" cy="5140440"/>
            <a:chOff x="1371600" y="838080"/>
            <a:chExt cx="5697360" cy="514044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1371600" y="838080"/>
              <a:ext cx="5697360" cy="51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71600" y="838080"/>
              <a:ext cx="5697360" cy="51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the index: cluste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11B50E-3F33-417C-9C6F-4375CD245F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447920" y="838080"/>
            <a:ext cx="5902200" cy="5292720"/>
            <a:chOff x="1447920" y="838080"/>
            <a:chExt cx="5902200" cy="52927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1447920" y="838080"/>
              <a:ext cx="5902200" cy="52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447920" y="838080"/>
              <a:ext cx="5902200" cy="52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the index: cluste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489360-9FF7-4120-99F6-5B8CBD1FA5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the index: cluste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 k-medoids clustering (Kaufman &amp; Rousseeuw, 198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cluster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R is the set of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M is the maximum number of resources per p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erage link gives the best performance for the inter-cluster di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5C4C64-624A-48FA-AEDC-A35F228DD0D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343400" y="2819520"/>
                <a:ext cx="19810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⌈"/>
                            <m:endChr m:val="⌉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R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the index: the tr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6F9D70-7936-44AE-A0A4-517590362DF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0880" y="4952880"/>
            <a:ext cx="8229600" cy="1116000"/>
            <a:chOff x="380880" y="4952880"/>
            <a:chExt cx="8229600" cy="11160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380880" y="4952880"/>
              <a:ext cx="82296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80880" y="4952880"/>
              <a:ext cx="822960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the index: the tr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3BC30D-7DD9-469A-B694-6771EB62E2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80880" y="3809880"/>
            <a:ext cx="8229600" cy="2252880"/>
            <a:chOff x="380880" y="3809880"/>
            <a:chExt cx="8229600" cy="225288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380880" y="3809880"/>
              <a:ext cx="8229600" cy="22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80880" y="3809880"/>
              <a:ext cx="8229600" cy="22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the index: the tr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CF6499-92F4-4169-B2FF-1207FD163E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0880" y="1905120"/>
            <a:ext cx="8229600" cy="4160880"/>
            <a:chOff x="380880" y="1905120"/>
            <a:chExt cx="8229600" cy="416088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380880" y="1905120"/>
              <a:ext cx="82296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80880" y="1905120"/>
              <a:ext cx="8229600" cy="41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RDF data and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The GRIN Index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swering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Experimental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5F368E-8607-44E9-85C2-6570B833D6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ries to constrai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ract constraints from the quer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d(?v1, Italian) ≤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d(?v2, Norfolk) ≤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d(?v3, Italian) ≤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and so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B8EF42-88D5-47E2-B7EC-630138FCA4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1464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ry evalu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88EDF9-9032-4E69-8E6D-FCA6E5F3BBD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al: identify the smallest circle that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is guarante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ntain an answer to the qu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 a depth-first travers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ach index node, evaluate the constra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constraints guarantee an answer, perform subgraph matc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ribu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htweight mechanism for indexing large RDF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GR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raph-base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D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d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ry answer algorithms for SPARQL-like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ion on two real-world datasets: TAP (Stanford) and ChefMoz (chefmoz.or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B73B26-D6D8-4B07-B60D-3268619D00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457200" y="1785960"/>
            <a:ext cx="8229600" cy="4159080"/>
            <a:chOff x="457200" y="1785960"/>
            <a:chExt cx="8229600" cy="415908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457200" y="1785960"/>
              <a:ext cx="8229600" cy="41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57200" y="1785960"/>
              <a:ext cx="8229600" cy="41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ry evalu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51C9C9-3D2E-43D7-8C89-A76668C6E6B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3581280"/>
            <a:ext cx="1066680" cy="114300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valuating constrai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d(?v1, Italian) ≤ 1, d(?v2, Norfolk) ≤ 1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(?v3, Italian) ≤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: is ?v1 in the circle (Grivanti, 3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d(Grivanti,?v1) ≤ d(Grivanti, Italian) +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(?v1, Italian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≤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+ 1 =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?v1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must b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in the circle (Grivanti,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DD3D61-F3B6-4BA8-BF0D-D2952E8680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valuating constrai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: is ?v3 in (Grivanti, 3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d(Grivanti, ?v3) ≤ d(Grivanti, Italian) +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(Italian, ?v3) 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+ 2 =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?v3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must b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in (Grivanti,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Similarly, ?v2 is in the same cir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7A486A-8E97-45C5-8047-64102083433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bgraph match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 subgraph matching on the resources in the circles guaranteed to contain an ans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Algorithm by Cordella et. al, IEEE PAMI 26(10),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st-time complexity of O(N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Where N is the maximum number of nodes in either 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In practice, GRIN makes N very sm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A74E91-4EC5-4A29-96EF-0DB4EF5EF3B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RDF data and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The GRIN Index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Answering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perimental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9D574A-635D-46BD-A617-061963443CD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erimental framewor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ison between GRIN, Sesame, Jena2 and RDFBroker (in-memor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Index buil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Memory consumption at query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Query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real-world datase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TAP (Stanford): datasets between 1.5MB and 300M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ChefMoz (chefmoz.org): 220 M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C693D8-4CC5-4A6C-9199-6910B5FD31A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 build ti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47EEA7-9639-4CDC-9399-6467372A503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0720" y="1596960"/>
            <a:ext cx="8242560" cy="4541760"/>
            <a:chOff x="450720" y="1596960"/>
            <a:chExt cx="8242560" cy="454176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450720" y="1596960"/>
              <a:ext cx="8242560" cy="45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50720" y="1596960"/>
              <a:ext cx="824256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mory consump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BA40C5-4CC9-4D17-A53A-EC922AEA9BB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0720" y="1596960"/>
            <a:ext cx="8242560" cy="4541760"/>
            <a:chOff x="450720" y="1596960"/>
            <a:chExt cx="8242560" cy="454176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450720" y="1596960"/>
              <a:ext cx="8242560" cy="45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50720" y="1596960"/>
              <a:ext cx="824256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ry ti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D9B886-8E21-40B9-9599-9AAA6C794DA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50720" y="1596960"/>
            <a:ext cx="8242560" cy="4541760"/>
            <a:chOff x="450720" y="1596960"/>
            <a:chExt cx="8242560" cy="454176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450720" y="1596960"/>
              <a:ext cx="8242560" cy="45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50720" y="1596960"/>
              <a:ext cx="824256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verage degree of a query no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039AE1-C3F0-4D02-BC36-2F506DA1A08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50720" y="1596960"/>
            <a:ext cx="8242560" cy="4541760"/>
            <a:chOff x="450720" y="1596960"/>
            <a:chExt cx="8242560" cy="454176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450720" y="1596960"/>
              <a:ext cx="8242560" cy="45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0720" y="1596960"/>
              <a:ext cx="824256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DF data and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The GRIN Index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Answering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Experimental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544B75-81A2-4714-816B-C144845FEEB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600200"/>
            <a:ext cx="822960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for indexing large RDF graphs adapted to the characteristics of RDF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expensive join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better query times than Jena2, Sesame and RDFBro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and future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itstream Vera Sans"/>
              </a:rPr>
              <a:t>Disk-based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itstream Vera Sans"/>
              </a:rPr>
              <a:t>Analysis of overlap and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8A663F-115B-4EE8-8284-3A788D55E9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DF graph example (ChefMoz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72102D-8F5C-498C-9761-E64688D855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95280" y="990720"/>
            <a:ext cx="5667480" cy="5140080"/>
            <a:chOff x="1295280" y="990720"/>
            <a:chExt cx="5667480" cy="51400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295280" y="990720"/>
              <a:ext cx="566748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295280" y="990720"/>
              <a:ext cx="5667480" cy="51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DF query examp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278694-DBD0-4F07-9C64-E750F0EC465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109960" y="2660760"/>
            <a:ext cx="4924080" cy="2409840"/>
            <a:chOff x="2109960" y="2660760"/>
            <a:chExt cx="4924080" cy="240984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2109960" y="2660760"/>
              <a:ext cx="4924080" cy="24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109960" y="2660760"/>
              <a:ext cx="4924080" cy="24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ry example in SPARQ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558E8F-A545-42B9-A74A-D39D619656B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81080" y="1371600"/>
            <a:ext cx="4924440" cy="2409840"/>
            <a:chOff x="1981080" y="1371600"/>
            <a:chExt cx="4924440" cy="240984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1981080" y="1371600"/>
              <a:ext cx="4924440" cy="24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981080" y="1371600"/>
              <a:ext cx="4924440" cy="24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432240" y="1600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53640" y="4191120"/>
            <a:ext cx="740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?v1 ?v2 ?v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(?v1 attire ?v3) . (?v1 cuisine Italian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(?v2 attire ?v3) . (?v2 cuisine Italian) . (?v2 location Norfolk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(Norfolk locatedIn NE/USA)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hefM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ative RDF systems: Jena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es RDF as (subject, property, value) in a relational 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xes on each of the three attribu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lates SPARQL/RDQL into SQ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D06BBC-3800-4513-AF42-C3450BCCB54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4419720" cy="2162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00200" y="38862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92840" y="43434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j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44197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ative RDF systems: Sesa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600200"/>
            <a:ext cx="822960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ekstra et al., ISWC 20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esame SAIL API improves on Je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Supports RDF Schema in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Separates RDFS from the triple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Supports database schema generation based on the underlying RDF schema of a data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blem of too many joins rem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0362E6-813F-4EF9-9C7B-81B1832E8B4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22:46:35Z</dcterms:created>
  <dc:creator>Octavian Udrea</dc:creator>
  <dc:description/>
  <dc:language>en-US</dc:language>
  <cp:lastModifiedBy>Octavian Udrea</cp:lastModifiedBy>
  <dcterms:modified xsi:type="dcterms:W3CDTF">2007-07-26T03:53:30Z</dcterms:modified>
  <cp:revision>232</cp:revision>
  <dc:subject/>
  <dc:title>Slide 1</dc:title>
</cp:coreProperties>
</file>